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D2A-D8AD-4666-8A48-94BE3A5B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C1F-EE52-4BF9-8FBA-5F573251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703-149A-4310-B07B-6578092B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D00-B343-414C-9070-E44B36C5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4B53-2690-4B30-A594-01CF4FD9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837F-657C-4932-AE6F-AC6936CC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BDA8-0260-45DF-8D16-C60AD203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1DE0-0145-4611-B317-1032B5B3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5E41-75CE-41B7-8577-3E04CFB2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4DA3-EF6F-4424-A6D1-D5D6CF96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908D-F98A-44F0-B526-CBAECE49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A81-674E-439A-90BA-C97BB971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002D-04B7-4131-BA44-1E8AC340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FCF8-57F8-42F0-A029-F3590848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9C3A-CB9B-44B3-AD07-561BAA34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F5CB-8D4B-4A99-AB87-64A67607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B446-4D58-4486-901A-B9E45841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1AD-099E-4279-A89A-62682689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ED1-D136-4959-AE0C-B340CAC3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E24-F309-4E76-9DCF-5890760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04F-0BA7-4B52-9ABB-472C70B6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7D3-4291-4556-BE3D-7E8C7693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4FF-3B6C-4A3D-912E-446450E1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A95-24B3-4233-9E3C-FC207809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B1CA-CFFA-43ED-85E0-0DA5E2D720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525B-5B64-4EA0-960C-AB98F2DD3D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92504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ЦЕЊИВАЊЕ ПЕРФОРМАНСИ ЗАПОСЛЕНИХ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685800" y="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оцењивач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оле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имају се у обзир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азличите дименз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форма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е оцене с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табилн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оком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азли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змеђ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апора и перформа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та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уководиоци на топ позиција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артнери (купци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кстерни оцењива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нцепт “360 степени”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јчешћ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е користи за оцену перформанси запослених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енаџерским позиција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а перформанси од стра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дре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дре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лег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 истом хијерархијском нив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мооцењи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Циклус оцењи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ужина трај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једног циклуса оцењ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чета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циклуса оцењ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eedback интервј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и инструмент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Рангирање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иректно ранг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нгирање на основу упарених поређ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ала наметнуте дистрибу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Поређење са стандар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иста пожељних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хника наметнутог из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и инструмент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I Поређење са специфично дефинисаним стандар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рафичка скала за о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мбинована стандардна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хника критичног инци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ала за оцену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прављање циљевима (MB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Balanced Scorec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ала за опсервацију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Грешке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Грешка сужавања расп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лаг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/ил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трог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цењ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нтралне тенд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Хало 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грешака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Несвесне гре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Фундментална грешка а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отцењивање или прeцењивање ситуационих фа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репрезентати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оређење са запосленима са најбољим перформанс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сећ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ећања на екстремне догађа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грешака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когнитивне дисторз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убјективност због постојећих когнитивних шема оцењив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првог утис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на основу првог утиска добијају се оц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егоцентричне а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грешка проистекла из идентификације оцењивача са запосленим чије перформансе се оцењу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грешака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Намерне гре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тички процеси у организ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флационирање о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лационирање о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и политичке кул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оцен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ритерију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и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узда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станак предубеђ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ктич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цењивањ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ефинициј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 у којем се оцењује допринос запосленог остварењу организационих циљ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њивање перформанси је олакшано уколико је у питању структуриран процес који се понаваља у одређеним временским циклус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мензије посл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ј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 дименз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сла које могу бит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дмет оцењив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вал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вант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штовање временских ро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рошковна ефикас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треба за над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терперсонални утица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Значај оцен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нформ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обијене у процесу оцене перформанси запослених имају неколико важни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функ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звој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дминистратив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табилизаторс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окументар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Личне карактеристике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зина одлучивања и логичког расуђ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ретање иниција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ност вербалне и невербалне комун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јалност и степен идентификације са организ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бле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рењу личних карактерист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ицај ситуационих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сервација личних каракте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хтева додатно објашњење запосленима шта треба да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гидност у кратком временском 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Понашање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ценат је на начину обављања по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финисање станд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блематичне сит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Шта када су задовољени циљеви перформанси кроз различита понашања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I Резул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новани су н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вантитатив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казатељ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валитатив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казатеље је могуће квантификова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блематичне сит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Како релативизовати утицај спољних фактора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оцењивач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епосредни руководиоц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имају добар увид у рад запосл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амооцењи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нформациона огранич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различите перцепције о захтевима по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огнитивна огранич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различита обрада информ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фективна огранич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осећај страха и угроже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4T06:46:29Z</dcterms:modified>
  <cp:revision>148</cp:revision>
  <dc:subject/>
  <dc:title>Soft and Hard Skills Development: A Current Situation in Serbian Companies</dc:title>
</cp:coreProperties>
</file>